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C200-0B5F-4317-97C7-B92F5A2C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6A0A-2164-44DF-84F0-4E03B858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3F9E-E4F6-4619-B5B4-3468A05F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485A-BDB6-4593-85CC-B27982DB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5384-5472-4547-86BB-F96B7A97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F152-98EA-45FB-8D42-5B1DA6A8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B199-8C50-4AE3-9297-68F08E1A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5005-687D-4159-81FA-ECD4D981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213D-6505-4BE1-8638-E2C23C6F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EF6D-8A03-4126-BC49-6158B394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8241-3C81-4CC6-BB9E-1BB7E90A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4201-EACA-4EC7-83F5-EF30E686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D61F-F454-4E3E-9191-F3221983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F97D-0D62-4EB4-A976-F4DC03DC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C594-DA2B-40FE-83BC-AE0E1B41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4F2A-BF35-4417-BFEE-D2E98023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5031-E6C1-4E4F-9F78-A2214070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995F-548A-4B54-8C85-4506DE65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0F4C-C8A4-48E1-8779-7C34B98A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C627-0369-4686-865E-6BC28589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F4CA-8DF0-4B19-AC53-191FDED5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F8C6-7A85-4CBC-972E-B5AA2551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3758-0A5D-47EA-9D0A-13360B1F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A9B8-D94B-432B-AA8A-80656D23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f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21f67"/>
                </a:gs>
                <a:gs pos="100000">
                  <a:srgbClr val="1f1d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221f67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1C7C-2F8A-4855-A3C0-AA10B7C1633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f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221f67"/>
                </a:gs>
                <a:gs pos="100000">
                  <a:srgbClr val="1c1a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221f67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67F8-A452-472E-B2AF-05ED1F1DB73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f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428640"/>
            <a:ext cx="769608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ffff"/>
                </a:solidFill>
                <a:latin typeface="Tahoma"/>
              </a:rPr>
              <a:t>BABY BELLS</a:t>
            </a:r>
            <a:endParaRPr b="0" lang="en-US" sz="8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381024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f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4267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 didn't seem they knew where to go for the information,” said intern Amy Wils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"Someone, somewhere, needs to come up with a transparency standard for reporting salary and benefits so any citizen can go online and see what they are, rather than being bounced around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3865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f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ir-the-Pot Kogerman published her findings online in May of 2010 – just weeks before the Los Angeles Times published the first Bell report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. 1: Little Laguna Hills’ Bruce Chann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e calculated his total comp at $460,809 a yea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ity officials attacked her report as “distorted,” “unfair,” “grossly inaccurate and clearly misleading,” and tried to dismiss it as a small-time, small-town electioneering stunt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8920" y="1295280"/>
            <a:ext cx="37450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f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295280" y="53341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July, the LAT broke the Bell scand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fficials began stumbling all over one another with proposals to bring accountability and transparency to local governmen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562720" cy="43210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Game changer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f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coup de grace came via an order from then-State Controller John Chiang, who simply announced new reporting requirements for all public agencies, "directing them to clearly identify elected officials and public employees' compensation.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information would be posted on the state controller's website starting in the fall of 2010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24152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f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2590920"/>
            <a:ext cx="17524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 battled, but most compli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ublicpay.ca.gov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as bor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743200" y="762120"/>
            <a:ext cx="612936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f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57400" y="152280"/>
            <a:ext cx="52992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f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 who makes what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240" y="2437920"/>
            <a:ext cx="6629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surprising number of public employees earned in excess of $1 million in 2013: 32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f those 32, six made more than $2 mill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f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6840" y="21333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highest-earning public employee in California in 2013 was not the governor or attorney general or even one of its highly-paid contract physician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 was Stephen Todd Alford, coach of UCLA’s basketball team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ford had wages of $2.64 million in 2013, and benefits worth another $35,762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5049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f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6840" y="190512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. 2 was Jeff Tedford, head coach of the California Golden Bears football team at UC Berkeley. Total pay: $2.44 million, no benefit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xt up was Jim L. Mora, head football coach at UCLA. Total pay: $2.41 million, plus benefits ($41,899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105520" y="1066680"/>
            <a:ext cx="3429000" cy="2330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105520" y="4267080"/>
            <a:ext cx="335268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f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57150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. 4: Daniel Dykes, football coach at UC Berkeley. Total pay: $2.37 million, plus benefits ($43,585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. 5: Benjamin Clark Howland, basketball coach at UCLA. Total pay: $2.32 million, plus benefits ($15,746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. 8: Michael J. Montgomery, basketball coach at UC Berkeley. Total pay: $1.74 million, plus benefits ($27,083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. 10 was Dan Guerrero, director of intercollegiate athletics at UCLA (pay, $1.6 million; benefits $63,015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100160" cy="1371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705720" y="2438280"/>
            <a:ext cx="1523880" cy="1400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934320" y="4343400"/>
            <a:ext cx="12589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f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Maybe not ‘corruption on steroids,’ but a well-worked system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960" y="1978200"/>
            <a:ext cx="5408640" cy="41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oy Campos, Downey police chie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tired after 30 years of service, age 5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tal compensation that year: $623,664, including leave worth $401,194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at made him the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secon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most-well-compensated city worker in the state of California in 2009, right behind Robert Rizzo, and right in front of Bell’s Angela Spacc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867280" y="1981080"/>
            <a:ext cx="3048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f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41148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e could argue that this is justified for reputation- and money-making endeavors such as high-performing university sports team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d one could argue that such compensation has no place on the public payroll at all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C says no tuition or state dollars pay their salari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Sacramento Bee pointedly noted that these coaches earned twice as much as the most celebrated brain surgeons at UC San Francisc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89560" y="1219320"/>
            <a:ext cx="2954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f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880" y="1904760"/>
            <a:ext cx="5486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. 6: Ronald W. Busuttil, executive chairman of the UCLA Department of Surgery (pay, $2.23 million; benefits, $50,812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. 7: Gordon A. Cohen, chief of the pediatric cardiothoracic surgery at UCSF (pay, $1.75 million; benefits, $31,851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. 9: Timothy H. McCalmont, professor of pathology and dermatology and co-director of UCSF’s dermatopathology service (pay, $1.72 million; benefits, $26,599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C is a world-class research university, so while the sums may seem stunning, one can argue that this is simply the price of doing busines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he next tier: medical doctors, which may be a bit harder to argue with.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400800" y="2133720"/>
            <a:ext cx="20113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f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It’s when one dips down the list a bit that things get a bit odder.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44956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omas Wander, CEO of the Beta Healthcare Group Risk Management Authority, total compensation of $1.2 millio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ta is a special distric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’s “a hospital-controlled risk-sharing pool” founded amid the medical malpractice crisis of the 1970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sort of pay is common among public hospital district CEOs (and nonprofit hospitals, too, but that’s another story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6383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f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2057400"/>
            <a:ext cx="4876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ul Jablonski, CEO of the San Diego Metropolitan Transit System, racked up total comp of $500,33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effrey Kightlinger, general manager of the Metropolitan Water District of Southern California, had total compensation of $486,411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chancellor of the San Mateo County Community College district had total comp of $419,491 (wages of $373,248 and benefits of $46,243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More obscure folks earning more than the president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934320" y="1219320"/>
            <a:ext cx="1647720" cy="2361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858000" y="3962520"/>
            <a:ext cx="17622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f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ore than the governo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520" y="1523880"/>
            <a:ext cx="5867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nta Monica Community College District superintendent/president, total comp of $411,783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eneral manager of the Eastern Municipal Water District, total comp of $371,73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ad of the Los Angeles County First 5 program, total comp of $304,128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f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orking the syste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5257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vertime can greatly increase pay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,010 city workers earned more in overtime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alon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han the average per capita income in California ($44,980) in 2013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overwhelming majority were firefighters and police officer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ral firefighters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triple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heir regular salaries by working gobs of overtime in 2013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867280" y="2743200"/>
            <a:ext cx="2913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f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5486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gel Bobo, a fire captain in Richmond, had regular pay of $113,892 and overtime of $279,105. Total comp, including health and pension benefits: $508,893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nn Thompson, City of Los Angeles firefighter III, had regular pay of $109,266, and overtime pay of $242,033. Total comp: $368,805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ichmond fire captain Marc Palechek, regular pay of $103,160, and overtime pay of $241,578. Total comp: $450,942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s Angeles Fire Captain I Charles Ferrari, regular pay of $125,174, and overtime of $240,229. Total comp: $381,877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range County Fire Authority senior communications supervisor David Paschke, regular pay of $76,807, and overtime pay of $141,929. Total comp: $273,195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72200" y="1905120"/>
            <a:ext cx="26193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f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9528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v. Jerry Brown’s executive secretary, Nancy McFadden, made more than he did, with total comp of $214,046 (to Brown’s $176,142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ris Murphy, director of the California Office of Traffic Safety and the Governor's Highway Safety Representative, also eclipsed Brown, with total comp of $193,05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deputy secretary manager at the San Diego County fair had total comp of $198,491 (wages of $158,430 and benefits of $40,061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f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828440" y="1371240"/>
            <a:ext cx="6095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did we get to this point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ving access to this information empowers We the Peopl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ables us to have an informed conversation about where we’re spending our money and what precisely we’re buying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re our spending priorities in the proper order? Or do we want to change things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 we debate, we have Robert Rizzo and co. to thank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f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ish lis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800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 hope this is just the infancy of the transparency movement in California and beyon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about an easily-accessible database of every contract governments grant to private companies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d a central spot for accessing official travel and expense reports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d a central spot for collecting local campaign contributions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ngs are much better than they used to be. But we can dream, can’t w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6576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f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4560" y="2819520"/>
            <a:ext cx="426708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en the Bell scandal broke, many official-types asserted that these sorts of startling public payouts were tremendous aberration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ut it turns out that they’re not so rare. Not at al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724280" y="609480"/>
            <a:ext cx="3629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f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n Francisco’s deputy police chief earned $530,542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eno Valley’s city manager clocked in at $499,937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 these are just the top-earners for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citi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…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ublic paychecks can well exceed $2 million a year – some well-justified, perhaps, and some no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t before we debate the appropriateness of all that, let’s figure out how we got her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2813040" cy="4114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60680" y="457200"/>
            <a:ext cx="313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In 200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f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pples to apples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2819160"/>
            <a:ext cx="4952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ust a few years ago, public pay data was maddeningly difficult to assem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ples-to-apples comparisons extremely difficult to do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257800" y="2819520"/>
            <a:ext cx="36576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f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228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lving into city manager, school superintendent and other executive pay was much like going to wa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OCR’s 2005 salary survey, Bruce Channing of Laguna Hills was OC’s best-paid city manager, at $225,000 a yea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6172200" cy="46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f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45720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ter Barbara “Stir-the-Pot” Kogerman, eyeing a run for City Council in Laguna Hill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much was the city manager was really, truly making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did that compare to other 33 city managers in Orange County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scient; this was just months before the LAT broke the Bell scandal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26668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f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6840" y="1905120"/>
            <a:ext cx="472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addition to standard salary, benefits, deferred comp and pension contributions that folks usually count…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ogerman wanted to know how much was spent on the city manager'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vehicle purchase/payments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ar insurance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ar repair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ar maintenance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asoline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ell phone equipment and usage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oll road fees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-home computer/office equipment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ues and subscriptions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ravel and meetings, payouts for unused vacation and sick leave ..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e list went on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61944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f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152280"/>
            <a:ext cx="5257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elcome to hell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 took Laguna Hills more than 100 hours of staff time to pull the information together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ith an estimated value of $5,00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german enlisted the help of Brandman University graduate students in public administration (a separate story you might want to ask Dr. Smoller about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931000" y="533520"/>
            <a:ext cx="32130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8:59:41Z</dcterms:created>
  <dc:creator>OCR</dc:creator>
  <dc:description/>
  <dc:language>en-US</dc:language>
  <cp:lastModifiedBy>OCR</cp:lastModifiedBy>
  <dcterms:modified xsi:type="dcterms:W3CDTF">2015-02-19T01:44:56Z</dcterms:modified>
  <cp:revision>109</cp:revision>
  <dc:subject/>
  <dc:title>BABY BELLS</dc:title>
</cp:coreProperties>
</file>