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0B6B-7B73-4381-B575-E53CD0F8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A37-7A1A-4791-9E15-6CD8256A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5108-125B-4C32-9FD3-8C9D0D0F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E1A-E708-480E-87B9-0B9605FD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3753-98CA-4A66-B99B-51019834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7E2-0847-4DE6-9682-61608F37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D732-4828-4A3B-9056-B4F00861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2CE-BD7E-44AD-AF32-1F3A0A64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5507-0BDB-47B3-94D0-B8174402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BD37-3ED1-40A5-9FAA-589EF4B9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2BB5-3CD2-4E5F-86F5-17C3360E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3CC4-CEFF-4276-9700-76FA2015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29D2-8FF1-4C63-A34E-91EB1556D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66583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181160" y="863640"/>
            <a:ext cx="768348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55680" y="279360"/>
            <a:ext cx="9360000" cy="5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1. Structural Landscape of the BRAF Kinase Dimer Complexes with Small Molecule Inhibi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e A, Verkhivker GM (2016) Exploring Molecular Mechanisms of Paradoxical Activation in the BRAF Kinase Dimers: Atomistic Simulations of Conformational Dynamics and Modeling of Allosteric Communication Networks and Signaling Pathways. PLOS ONE 11(11): e0166583. doi:10.1371/journal.pone.01665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665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7569360" y="7188120"/>
            <a:ext cx="24256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ference Desk, Library</dc:creator>
  <dc:description/>
  <dc:language>en-US</dc:language>
  <cp:lastModifiedBy>Leatherby Libraries</cp:lastModifiedBy>
  <dcterms:modified xsi:type="dcterms:W3CDTF">2016-11-22T17:44:5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